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E60-1E0E-43FE-B3E8-0ADF24C1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4D6-AB5B-4BAC-A74D-8CCE6D19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EDB-FCC6-4D79-B7DF-6402C929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DF3-28DE-44BA-B25E-ED9B59FD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693-DD6E-43E6-A9F5-A26018C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155-6061-4B9B-A0D3-38B7AA51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8C2-0742-43BF-A074-BDF407C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A3D-839F-41A6-85F1-5D9D3F6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B2A-98BB-49D8-884C-A4AED631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BAD-C58B-46F2-A890-7F0FB27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935-069A-4C51-BF21-CD98309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294-00BD-4046-ADD0-024E2AA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1E20-5134-4B8B-8095-A9EA89D61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1981080"/>
            <a:ext cx="85341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afety in the Workplac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not leave bed cranks exten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oid hazards in transporting patients on a stret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00100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not climb to reach equipment without a safety lad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 intersections with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oid hazards in the phar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spills from the floor immedia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5:27:52Z</dcterms:created>
  <dc:creator>Renee Krzypkowski</dc:creator>
  <dc:description/>
  <dc:language>en-US</dc:language>
  <cp:lastModifiedBy>Krista</cp:lastModifiedBy>
  <dcterms:modified xsi:type="dcterms:W3CDTF">2011-08-15T21:08:59Z</dcterms:modified>
  <cp:revision>3</cp:revision>
  <dc:subject/>
  <dc:title>PowerPoint Presentation</dc:title>
</cp:coreProperties>
</file>